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B3D0-7733-4833-973D-3540DEF196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DD7-569F-4AFE-A221-8DA9F351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924-7DE2-4A40-8FA7-D685C3E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BE1-A3BD-412C-B316-AF51DDEC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6F8-A3EF-4C08-86B8-FE7938A4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B9D-2EF4-44F4-AE90-486AC890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0F4-1AF9-46B4-A1FE-CC8825D2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EB9-0500-4D9C-8027-1DA08F9A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F4D-991C-44D6-8FEA-35B2E227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72A-6B55-4D3C-A9EF-C932770F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54D-AE1F-4392-B17C-E501DEAC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7E5-9346-4016-84A0-9E9BD2C1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79B-03AF-4516-BC99-7E6B3531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8468-5E8D-4CA6-8C39-4267C804C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RomaK</cp:lastModifiedBy>
  <dcterms:modified xsi:type="dcterms:W3CDTF">2015-09-04T09:30:12Z</dcterms:modified>
  <cp:revision>7</cp:revision>
  <dc:subject/>
  <dc:title>Immigrants in America</dc:title>
</cp:coreProperties>
</file>